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Modelling the dynamics of dengue real epide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28 December 2010 vol. 368 no. 1933 5679-569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ttp://rsta.royalsocietypublishing.org/content/368/1933/5679.f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282F-5213-4E7A-99BA-74130B2D5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A8E4-B288-4B64-B533-AF56774F1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8C0F-784F-4C73-86B8-D847D4954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7AC1-2BE4-4F93-928C-255ADB708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8CE4-D4EF-4CA5-90C6-280C42E13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72AF-E46A-42CE-AE9C-3A7F2AA4F3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9D6A-1FD2-40D4-93AA-AFA529F081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B962-FEDA-4F7B-A314-624590CBC7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BB56-AFBE-4141-BEA7-35786C118E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929E-8918-40BF-BEFD-E90405729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A486-BEA2-4D34-87BC-1BE303016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4053-207D-45F0-BDFF-53986C1BF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0ACC-580F-44C3-B012-49B3A6922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9A27-0F33-478F-B606-3DB11C0DA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9B15-AF59-4359-A9F2-FC23BEFFB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5745-BE15-410E-8E71-590864261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A6D2-2979-4AE7-AB5D-62684F43E0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E332-8685-43A2-8AF9-8366D76A4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D55E-3498-438D-9FE1-C47555366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2E6C-37FF-4491-BD3F-F31E70877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191B-3189-4C72-BF2F-D79FD24CA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39F6-C515-4BAA-8293-BE7B13A82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49B6-5C65-4B8C-B003-FC0C92D2B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44E3-D8E9-450F-8C75-C538BB2E5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CF5-D1F1-46E1-A1F2-F10A2E8B8A8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67B-F196-4D9F-BB39-A623CE0DFFE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Epide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4783" t="0" r="0" b="50281"/>
          <a:stretch/>
        </p:blipFill>
        <p:spPr>
          <a:xfrm>
            <a:off x="415800" y="1266840"/>
            <a:ext cx="8691840" cy="4032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84360" y="55404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pt-BR" sz="1800" spc="-1" strike="noStrike">
                <a:solidFill>
                  <a:srgbClr val="000000"/>
                </a:solidFill>
                <a:latin typeface="Humnst777 BT"/>
              </a:rPr>
              <a:t>In epidemiology, an epidemic occurs when new cases of a certain disease, in a given human population, and during a given period, substantially exceed what is expected based on recent experience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6269760" y="6496200"/>
            <a:ext cx="2718000" cy="3222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6244200" y="6526080"/>
            <a:ext cx="2718000" cy="3222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0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941440" y="6381720"/>
            <a:ext cx="323784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1116000" y="2425680"/>
            <a:ext cx="7147080" cy="1940040"/>
            <a:chOff x="1116000" y="2425680"/>
            <a:chExt cx="7147080" cy="194004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2425680"/>
              <a:ext cx="714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4"/>
            <p:cNvSpPr/>
            <p:nvPr/>
          </p:nvSpPr>
          <p:spPr>
            <a:xfrm>
              <a:off x="3002040" y="24256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724720" y="24364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(but can only infect the susceptible 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ome scenario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the infection: 2, 4, 8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tacts that cause infection: 50%, 25%, 12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f the number of contacts is cut by half when the infections reach 2000 or 1000 due to an educational campa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dro R Andrade Nt</cp:lastModifiedBy>
  <dcterms:modified xsi:type="dcterms:W3CDTF">2020-08-03T19:50:40Z</dcterms:modified>
  <cp:revision>4</cp:revision>
  <dc:subject/>
  <dc:title>Epidemics</dc:title>
</cp:coreProperties>
</file>